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D40-689E-4813-B46D-62CDE6B1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85A-1483-4D28-88C4-EDAE40B6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861-9F5C-4BF2-A7A3-9D61E5F4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DF0-B6BA-479C-B43A-35CF8D7E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F691-BBEA-424F-9441-2E4000A6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9CFD-0DD1-4340-8225-FF1B2097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96A1-CB68-4E58-B8EB-CD73209F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21E-3869-430A-B5C7-20741E29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0FC7-6014-4E2D-A1B6-E710DE44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4118-DF02-46D9-BBC2-09628964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B95A-C1D3-44A0-8CCA-B36263F0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888-AB76-47E5-BBF7-87F501C6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E8DC-D8F2-4CC0-A011-AA85ED43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4099-5D16-4661-B96A-1D8015FB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035C-AA0F-495B-A069-BF8F48EA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5C2F-A1EF-4993-8579-11BF8E3B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1228-3415-4F7B-9AE2-E2B90D19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9C7-5FAA-4ACA-A18B-02F7CEA3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496-895D-4D9C-A674-9B25DCF2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3F6-D3FE-4B18-A51D-5ED72A99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0B7-3156-4556-863A-2E922891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098-6A08-4908-A69F-83615ED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38D-8679-4F73-8F5D-BBE5CF86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D3A-B7F5-45F3-BF3A-47AC40F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4BE4-4848-405F-9A0F-A5423AA5C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3702-6AAF-404C-8C3D-B2DBFC314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Irish_potato_famine_Bridget_O%27Donnel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www.answers.com/topic/blasphemydurer-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apter 6:</a:t>
            </a:r>
            <a:br>
              <a:rPr sz="4400"/>
            </a:b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Urban Ame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sential Ques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ow did the waves of immigration and migration impact the social and cultural face of Amer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.  New Cultu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:The confusion and anxiety that results from not understanding a new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c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Chicago_chinatown_015"/>
          <p:cNvPicPr/>
          <p:nvPr/>
        </p:nvPicPr>
        <p:blipFill>
          <a:blip r:embed="rId1"/>
          <a:stretch/>
        </p:blipFill>
        <p:spPr>
          <a:xfrm>
            <a:off x="7219800" y="3079800"/>
            <a:ext cx="1713240" cy="21556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2"/>
          <p:cNvGrpSpPr/>
          <p:nvPr/>
        </p:nvGrpSpPr>
        <p:grpSpPr>
          <a:xfrm>
            <a:off x="1089000" y="1116000"/>
            <a:ext cx="6966000" cy="4626000"/>
            <a:chOff x="1089000" y="1116000"/>
            <a:chExt cx="6966000" cy="4626000"/>
          </a:xfrm>
        </p:grpSpPr>
        <p:sp>
          <p:nvSpPr>
            <p:cNvPr id="131" name="Rectangle 7"/>
            <p:cNvSpPr/>
            <p:nvPr/>
          </p:nvSpPr>
          <p:spPr>
            <a:xfrm>
              <a:off x="1089000" y="1116000"/>
              <a:ext cx="69660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089000" y="1116000"/>
              <a:ext cx="3797280" cy="3235320"/>
              <a:chOff x="1089000" y="1116000"/>
              <a:chExt cx="3797280" cy="3235320"/>
            </a:xfrm>
          </p:grpSpPr>
          <p:sp>
            <p:nvSpPr>
              <p:cNvPr id="133" name="Rectangle 8"/>
              <p:cNvSpPr/>
              <p:nvPr/>
            </p:nvSpPr>
            <p:spPr>
              <a:xfrm>
                <a:off x="1089000" y="1116000"/>
                <a:ext cx="379584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9"/>
              <p:cNvSpPr/>
              <p:nvPr/>
            </p:nvSpPr>
            <p:spPr>
              <a:xfrm>
                <a:off x="1089000" y="1116000"/>
                <a:ext cx="3797280" cy="32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20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" name="Picture 10" descr="Greektown Chicago Its History - Its Recipes"/>
          <p:cNvPicPr/>
          <p:nvPr/>
        </p:nvPicPr>
        <p:blipFill>
          <a:blip r:embed="rId2"/>
          <a:stretch/>
        </p:blipFill>
        <p:spPr>
          <a:xfrm>
            <a:off x="4886280" y="291924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Dsc02910"/>
          <p:cNvPicPr/>
          <p:nvPr/>
        </p:nvPicPr>
        <p:blipFill>
          <a:blip r:embed="rId3"/>
          <a:stretch/>
        </p:blipFill>
        <p:spPr>
          <a:xfrm>
            <a:off x="1089000" y="2971800"/>
            <a:ext cx="3162240" cy="23716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6"/>
          <p:cNvGrpSpPr/>
          <p:nvPr/>
        </p:nvGrpSpPr>
        <p:grpSpPr>
          <a:xfrm>
            <a:off x="0" y="-76320"/>
            <a:ext cx="9144000" cy="7010280"/>
            <a:chOff x="0" y="-76320"/>
            <a:chExt cx="9144000" cy="7010280"/>
          </a:xfrm>
        </p:grpSpPr>
        <p:sp>
          <p:nvSpPr>
            <p:cNvPr id="138" name="Rectangle 19"/>
            <p:cNvSpPr/>
            <p:nvPr/>
          </p:nvSpPr>
          <p:spPr>
            <a:xfrm>
              <a:off x="0" y="-7632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35"/>
            <p:cNvGrpSpPr/>
            <p:nvPr/>
          </p:nvGrpSpPr>
          <p:grpSpPr>
            <a:xfrm>
              <a:off x="0" y="-76320"/>
              <a:ext cx="9144000" cy="7010280"/>
              <a:chOff x="0" y="-76320"/>
              <a:chExt cx="9144000" cy="7010280"/>
            </a:xfrm>
          </p:grpSpPr>
          <p:sp>
            <p:nvSpPr>
              <p:cNvPr id="140" name="Rectangle 20"/>
              <p:cNvSpPr/>
              <p:nvPr/>
            </p:nvSpPr>
            <p:spPr>
              <a:xfrm>
                <a:off x="0" y="-7632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34"/>
              <p:cNvGrpSpPr/>
              <p:nvPr/>
            </p:nvGrpSpPr>
            <p:grpSpPr>
              <a:xfrm>
                <a:off x="0" y="-76320"/>
                <a:ext cx="9144000" cy="7010280"/>
                <a:chOff x="0" y="-76320"/>
                <a:chExt cx="9144000" cy="7010280"/>
              </a:xfrm>
            </p:grpSpPr>
            <p:sp>
              <p:nvSpPr>
                <p:cNvPr id="142" name="Rectangle 21"/>
                <p:cNvSpPr/>
                <p:nvPr/>
              </p:nvSpPr>
              <p:spPr>
                <a:xfrm>
                  <a:off x="0" y="-76320"/>
                  <a:ext cx="914400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Group 33"/>
                <p:cNvGrpSpPr/>
                <p:nvPr/>
              </p:nvGrpSpPr>
              <p:grpSpPr>
                <a:xfrm>
                  <a:off x="0" y="-76320"/>
                  <a:ext cx="9144000" cy="7010280"/>
                  <a:chOff x="0" y="-76320"/>
                  <a:chExt cx="9144000" cy="7010280"/>
                </a:xfrm>
              </p:grpSpPr>
              <p:sp>
                <p:nvSpPr>
                  <p:cNvPr id="144" name="Rectangle 22"/>
                  <p:cNvSpPr/>
                  <p:nvPr/>
                </p:nvSpPr>
                <p:spPr>
                  <a:xfrm>
                    <a:off x="0" y="-76320"/>
                    <a:ext cx="914400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5" name="Group 32"/>
                  <p:cNvGrpSpPr/>
                  <p:nvPr/>
                </p:nvGrpSpPr>
                <p:grpSpPr>
                  <a:xfrm>
                    <a:off x="0" y="-76320"/>
                    <a:ext cx="5848200" cy="7010280"/>
                    <a:chOff x="0" y="-76320"/>
                    <a:chExt cx="5848200" cy="7010280"/>
                  </a:xfrm>
                </p:grpSpPr>
                <p:sp>
                  <p:nvSpPr>
                    <p:cNvPr id="146" name="Rectangle 23"/>
                    <p:cNvSpPr/>
                    <p:nvPr/>
                  </p:nvSpPr>
                  <p:spPr>
                    <a:xfrm>
                      <a:off x="0" y="-76320"/>
                      <a:ext cx="5840280" cy="7010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7" name="Group 31"/>
                    <p:cNvGrpSpPr/>
                    <p:nvPr/>
                  </p:nvGrpSpPr>
                  <p:grpSpPr>
                    <a:xfrm>
                      <a:off x="0" y="-76320"/>
                      <a:ext cx="5848200" cy="6473520"/>
                      <a:chOff x="0" y="-76320"/>
                      <a:chExt cx="5848200" cy="6473520"/>
                    </a:xfrm>
                  </p:grpSpPr>
                  <p:sp>
                    <p:nvSpPr>
                      <p:cNvPr id="148" name="Rectangle 24"/>
                      <p:cNvSpPr/>
                      <p:nvPr/>
                    </p:nvSpPr>
                    <p:spPr>
                      <a:xfrm>
                        <a:off x="0" y="-76320"/>
                        <a:ext cx="5848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9" name="Group 30"/>
                      <p:cNvGrpSpPr/>
                      <p:nvPr/>
                    </p:nvGrpSpPr>
                    <p:grpSpPr>
                      <a:xfrm>
                        <a:off x="0" y="-76320"/>
                        <a:ext cx="4465800" cy="6473520"/>
                        <a:chOff x="0" y="-76320"/>
                        <a:chExt cx="4465800" cy="6473520"/>
                      </a:xfrm>
                    </p:grpSpPr>
                    <p:sp>
                      <p:nvSpPr>
                        <p:cNvPr id="150" name="Rectangle 25"/>
                        <p:cNvSpPr/>
                        <p:nvPr/>
                      </p:nvSpPr>
                      <p:spPr>
                        <a:xfrm>
                          <a:off x="0" y="-76320"/>
                          <a:ext cx="4465800" cy="64735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1" name="Group 29"/>
                        <p:cNvGrpSpPr/>
                        <p:nvPr/>
                      </p:nvGrpSpPr>
                      <p:grpSpPr>
                        <a:xfrm>
                          <a:off x="0" y="-76320"/>
                          <a:ext cx="4465800" cy="2526840"/>
                          <a:chOff x="0" y="-76320"/>
                          <a:chExt cx="4465800" cy="2526840"/>
                        </a:xfrm>
                      </p:grpSpPr>
                      <p:sp>
                        <p:nvSpPr>
                          <p:cNvPr id="152" name="Rectangle 26"/>
                          <p:cNvSpPr/>
                          <p:nvPr/>
                        </p:nvSpPr>
                        <p:spPr>
                          <a:xfrm>
                            <a:off x="0" y="-76320"/>
                            <a:ext cx="446580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3" name="Rectangle 27"/>
                          <p:cNvSpPr/>
                          <p:nvPr/>
                        </p:nvSpPr>
                        <p:spPr>
                          <a:xfrm>
                            <a:off x="0" y="-76320"/>
                            <a:ext cx="4465800" cy="25268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pic>
        <p:nvPicPr>
          <p:cNvPr id="154" name="Picture 28" descr="top_main"/>
          <p:cNvPicPr/>
          <p:nvPr/>
        </p:nvPicPr>
        <p:blipFill>
          <a:blip r:embed="rId4"/>
          <a:stretch/>
        </p:blipFill>
        <p:spPr>
          <a:xfrm>
            <a:off x="4465800" y="4681440"/>
            <a:ext cx="2552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.  Surviv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Formed social clubs and news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henated names =  Holding on to both cultures; i.e. African-, Polish-, Mexican-Ameri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G.  “Melting Pot” or “Salad Bowl”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lting p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eople of different cultures and races who blend together by leaving behind their native custo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ad Bow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all the ingredients are mixed together, yet they never lose their shape, form or identity. Together, however, the ingredients make up a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melting_pot"/>
          <p:cNvPicPr/>
          <p:nvPr/>
        </p:nvPicPr>
        <p:blipFill>
          <a:blip r:embed="rId1"/>
          <a:stretch/>
        </p:blipFill>
        <p:spPr>
          <a:xfrm>
            <a:off x="1981080" y="3886200"/>
            <a:ext cx="2229120" cy="2552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salad_bowl"/>
          <p:cNvPicPr/>
          <p:nvPr/>
        </p:nvPicPr>
        <p:blipFill>
          <a:blip r:embed="rId2"/>
          <a:stretch/>
        </p:blipFill>
        <p:spPr>
          <a:xfrm>
            <a:off x="6019920" y="3505320"/>
            <a:ext cx="208440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.  Nativ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ism – favoritism over native-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” white 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” ones = Asians, Jews, E. Europeans, Cath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/cut off im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cartoon"/>
          <p:cNvPicPr/>
          <p:nvPr/>
        </p:nvPicPr>
        <p:blipFill>
          <a:blip r:embed="rId1"/>
          <a:stretch/>
        </p:blipFill>
        <p:spPr>
          <a:xfrm>
            <a:off x="4724280" y="1676520"/>
            <a:ext cx="411480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riots"/>
          <p:cNvPicPr/>
          <p:nvPr/>
        </p:nvPicPr>
        <p:blipFill>
          <a:blip r:embed="rId1"/>
          <a:stretch/>
        </p:blipFill>
        <p:spPr>
          <a:xfrm>
            <a:off x="3048120" y="457200"/>
            <a:ext cx="3760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.  Restrictions on Asi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Chinese Exclusion Act (1882-194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yr restriction on Chinese immigrants unless tourist, student, or profes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ese in US- not able to become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Gentlemen's Agreement (1907-19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amount of Japanese immigrating to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21304"/>
                </a:solidFill>
                <a:latin typeface="Times New Roman"/>
              </a:rPr>
              <a:t>A.  Why would they leave?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igious &amp; Political pers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s/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vercrow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od and land shor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Image:Irish potato famine Bridget O'Donn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80880"/>
            <a:ext cx="1994040" cy="2890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0" y="129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popGlobe2"/>
          <p:cNvPicPr/>
          <p:nvPr/>
        </p:nvPicPr>
        <p:blipFill>
          <a:blip r:embed="rId3"/>
          <a:stretch/>
        </p:blipFill>
        <p:spPr>
          <a:xfrm>
            <a:off x="2209680" y="4267080"/>
            <a:ext cx="2076480" cy="2041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6" descr="Of Blasphemy, from the Narrenschiff (The Ship of Fools); woodcut attributed to Albrecht Dür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2895480"/>
            <a:ext cx="22860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B.  The Journey Over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3 weeks voy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ty, uncomfortable conditions,no fresh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yed in ste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3336840" y="1890720"/>
            <a:ext cx="2470320" cy="3446640"/>
            <a:chOff x="3336840" y="1890720"/>
            <a:chExt cx="2470320" cy="3446640"/>
          </a:xfrm>
        </p:grpSpPr>
        <p:sp>
          <p:nvSpPr>
            <p:cNvPr id="103" name="Rectangle 5"/>
            <p:cNvSpPr/>
            <p:nvPr/>
          </p:nvSpPr>
          <p:spPr>
            <a:xfrm>
              <a:off x="3336840" y="1890720"/>
              <a:ext cx="1455840" cy="16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3336840" y="1890720"/>
              <a:ext cx="247032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0" y="-205816320"/>
            <a:ext cx="10615680" cy="360"/>
            <a:chOff x="0" y="-205816320"/>
            <a:chExt cx="10615680" cy="360"/>
          </a:xfrm>
        </p:grpSpPr>
        <p:sp>
          <p:nvSpPr>
            <p:cNvPr id="106" name="Rectangle 14"/>
            <p:cNvSpPr/>
            <p:nvPr/>
          </p:nvSpPr>
          <p:spPr>
            <a:xfrm>
              <a:off x="0" y="-205816320"/>
              <a:ext cx="1061568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0" y="-205816320"/>
              <a:ext cx="1061568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Picture 20" descr="The image “http://library.thinkquest.org/20619/media/boatpe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800600" y="14479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The image “http://library.thinkquest.org/20619/media/Boat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1143000" y="312408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llis Islan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1" name="Picture 3" descr="Stat of Lib"/>
          <p:cNvPicPr/>
          <p:nvPr/>
        </p:nvPicPr>
        <p:blipFill>
          <a:blip r:embed="rId1"/>
          <a:stretch/>
        </p:blipFill>
        <p:spPr>
          <a:xfrm>
            <a:off x="990720" y="16765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ellis_distance_lg"/>
          <p:cNvPicPr/>
          <p:nvPr/>
        </p:nvPicPr>
        <p:blipFill>
          <a:blip r:embed="rId2"/>
          <a:stretch/>
        </p:blipFill>
        <p:spPr>
          <a:xfrm>
            <a:off x="4800600" y="1828800"/>
            <a:ext cx="40291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.  Immigrants Arr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4 1890, most came from N. and W. Europe “old immigra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1890, most came from E. and S. Europe “new immigra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Europe map"/>
          <p:cNvPicPr/>
          <p:nvPr/>
        </p:nvPicPr>
        <p:blipFill>
          <a:blip r:embed="rId1"/>
          <a:stretch/>
        </p:blipFill>
        <p:spPr>
          <a:xfrm>
            <a:off x="5008680" y="1752480"/>
            <a:ext cx="372564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eat Hal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8" name="Picture 3" descr="The image “http://www.pahh.com/zervanos/pics/pic19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914400" y="2057400"/>
            <a:ext cx="7848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spection Lin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Picture 3" descr="The image “http://web.gc.cuny.edu/ashp/heaven/images/ellis-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914400" y="2217600"/>
            <a:ext cx="777240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dical &amp; Mental Exams*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Picture 3" descr="medexam"/>
          <p:cNvPicPr/>
          <p:nvPr/>
        </p:nvPicPr>
        <p:blipFill>
          <a:blip r:embed="rId1"/>
          <a:stretch/>
        </p:blipFill>
        <p:spPr>
          <a:xfrm>
            <a:off x="2666880" y="1676520"/>
            <a:ext cx="4262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D.  Angel Island (West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and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ontinental 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ng, farming, domestic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4136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ww1_13"/>
          <p:cNvPicPr/>
          <p:nvPr/>
        </p:nvPicPr>
        <p:blipFill>
          <a:blip r:embed="rId1"/>
          <a:stretch/>
        </p:blipFill>
        <p:spPr>
          <a:xfrm>
            <a:off x="1752480" y="3103560"/>
            <a:ext cx="57913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1-10-16T21:34:49Z</dcterms:modified>
  <cp:revision>17</cp:revision>
  <dc:subject/>
  <dc:title>PowerPoint Presentation</dc:title>
</cp:coreProperties>
</file>